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9DC7-AD0B-4B5C-9610-8D6B2E4B18F9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9F4E-C145-42EF-937E-08B5D29566D2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65B3-F181-40BC-BE4B-3CA169168FA6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B6AE-0BE5-4FBA-A04B-3D8DA6F93B7E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DA14-4ED3-4574-80E7-06ECC4C7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CD25-67FF-4BEF-AE55-753A4951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AB75-9D31-4F72-939E-7B9F14F6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F26C-993D-4682-BE6B-FF77B2BB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F46-077D-49E8-99F2-9FF0C7F9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FEBA-FB19-417A-B225-72C11E22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B62-A0A6-42F1-AC0B-5574C472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CD0-8D17-4795-B83F-B1C24B84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0E67-6FE4-42D9-B3B4-78B742E8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8B6-D362-460A-8F26-AFE512B7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07E-E0BC-4F4E-915A-8DB182CE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4345-C968-4462-99FC-8AB1095F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F2FC-62E0-40E9-9928-A20DE98063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3820-4BBB-4BEB-B28F-9BAE839C9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ariff-based competitive bidding for procurement of 2000 MW of solar power in Telangana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d Deadline : 15 May 2015, 17:00 H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(Southern Power Distribution Company of Telangana Limit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Procurers: TSSPDCL and TSN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52480" y="5943600"/>
          <a:ext cx="6096240" cy="731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Note</a:t>
                      </a: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: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terms and conditions mentioned in this PPT are subject to revised RfS and PPA to be uploaded so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52280" y="99036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All Bid parameters are ranked from lowest to highest and allocation shall start from Bidder with first rank i.e.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lowest tariff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. In case bid parameters for two bids is the same, then the  bid corresponding to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offered capacity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will be given better rank. If both bid parameter and offered capacity are the same, bidder demonstrating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net worth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is given pre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Financial Bids can be submitted by the Bidder. But allocation will happen in the stacking order of bid parameter only. Hence a bidder may have more than one position in the ranking order depending on the number of financial bids submit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ion of Bids and allocation of Interconnection Substations (1/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600360" y="4038480"/>
            <a:ext cx="1866960" cy="1908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74680" y="4267080"/>
          <a:ext cx="8443800" cy="2479680"/>
        </p:xfrm>
        <a:graphic>
          <a:graphicData uri="http://schemas.openxmlformats.org/drawingml/2006/table">
            <a:tbl>
              <a:tblPr/>
              <a:tblGrid>
                <a:gridCol w="1785960"/>
                <a:gridCol w="1035000"/>
                <a:gridCol w="917640"/>
                <a:gridCol w="917640"/>
                <a:gridCol w="917280"/>
                <a:gridCol w="917640"/>
                <a:gridCol w="919080"/>
                <a:gridCol w="103356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d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(Rs/un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e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 (Rs C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</a:tr>
            </a:tbl>
          </a:graphicData>
        </a:graphic>
      </p:graphicFrame>
      <p:sp>
        <p:nvSpPr>
          <p:cNvPr id="78" name="Oval 9"/>
          <p:cNvSpPr/>
          <p:nvPr/>
        </p:nvSpPr>
        <p:spPr>
          <a:xfrm>
            <a:off x="6515280" y="4452840"/>
            <a:ext cx="2171520" cy="194796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809880" y="4529160"/>
            <a:ext cx="2133720" cy="118584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834C-8708-4A8D-99CA-790541081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llustration</a:t>
            </a:r>
            <a:br>
              <a:rPr sz="4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umbers and values used for substations are purely representati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D345-A9DD-4D56-87D6-C0ABE35E3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85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15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88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91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94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 in MW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1"/>
          <p:cNvSpPr/>
          <p:nvPr/>
        </p:nvSpPr>
        <p:spPr>
          <a:xfrm>
            <a:off x="6048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577600" y="32209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hadnagar can accommodate 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B7C5-71C5-46A9-88C6-571FF1A25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1.48148E-006 L 0.0448 0.18125 C 0.05764 0.21968 0.06476 0.27662 0.06476 0.33634 C 0.06476 0.40417 0.05764 0.4581 0.0448 0.49653 L -0.01076 0.67824 E"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1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7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1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2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2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122400" y="54784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570400" y="3220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eltoor can accommodate 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30"/>
          <p:cNvSpPr/>
          <p:nvPr/>
        </p:nvSpPr>
        <p:spPr>
          <a:xfrm>
            <a:off x="228600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8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8EA4-6083-4E0C-9EC3-7C5E291A0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4.44444E-006 L -0.04288 0.18125 C -0.05 0.21945 -0.05399 0.27662 -0.05399 0.33635 C -0.05399 0.40394 -0.05 0.45811 -0.04288 0.4963 L -0.01076 0.67778 E">
                                      <p:cBhvr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43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46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49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52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16CC-3552-4156-BA54-2AFD6D96A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7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7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8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8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0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7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2B3D-8CD8-4310-B667-54A1413D6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-0.4941 0.73333 E">
                                      <p:cBhvr>
                                        <p:cTn id="4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07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10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13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16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4"/>
          <p:cNvSpPr/>
          <p:nvPr/>
        </p:nvSpPr>
        <p:spPr>
          <a:xfrm>
            <a:off x="235800" y="2981160"/>
            <a:ext cx="87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3 selected 70 MW at Shadnagar in First Round and did not participate in the Seco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395C-B02C-4730-AA8C-AB1A126C6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38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41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44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47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2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46CD-3F38-4DD2-8986-48F45E36C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71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74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77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80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6751800" y="84924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-47520" y="3479760"/>
            <a:ext cx="36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4 opted to participate in 2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balance 50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A36A-A534-4C90-BA77-2F6608568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4.81481E-006 L -0.47986 0.7338 E">
                                      <p:cBhvr>
                                        <p:cTn id="5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urpose of this presentation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a summ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 Bid Model for the Telangana solar tender. The model essentially revolves around a distributed generation format with projects connected at 33kV, 132 kV and 220 kV voltage lev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dders have to rely on the bid documents available on the website for all the terms and conditions applicable for the Bid. This presentation only provides a quick overview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not comprehensiv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nature. In the event of any discrepancy between this presentation and the bid documents, the bid documents will overrule this docu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attempts to provide clarifications on some of the queries raised by the Bidders but Bidders should solely rely on the clarifications/amendments issued by the Authorized Representative on the eProcurement platform/website as the case may 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EF8A-DDE0-4D9D-B8A0-B91F8ED95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" y="0"/>
          <a:ext cx="8839080" cy="6616800"/>
        </p:xfrm>
        <a:graphic>
          <a:graphicData uri="http://schemas.openxmlformats.org/drawingml/2006/table">
            <a:tbl>
              <a:tblPr/>
              <a:tblGrid>
                <a:gridCol w="2819520"/>
                <a:gridCol w="6019560"/>
              </a:tblGrid>
              <a:tr h="3873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33/11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on double circuit line at 220/132 kV or 400/220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(technology agnostic within P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10 Lakhs/MW through BG (210 days from bid deadline) for each Financial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ase of foreign companies, Indian affiliate can furnish bank guarantee along with additional documents mention in R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 Thousand (Rs 10,000/-) per MW of Offered Capacity subject to a maximum of Rs One Lakh (Rs 1,00,000) for each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Bank Guaran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20 Lakhs/MW per Project in three BG (15%, 35% and 50%) valid for 18 months from signing of PPA (PBG to be submitted within 30 days of issue of LOI failing which EMD will be forfei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30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Eligibility: Commercial and technically proven technologies to be adop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: INR 2 crore/MW of Bi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, Partnerships, Individuals, foreign companies, LLC are elig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 Consortiums are not eligible for participation in this RF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s, foreign companies, foreign individuals must create project companies with equity infused to INR 0.6 Cr/MW by PPA signing and INR 1.4 Cr/MW by financial clo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ED59-E5FC-4EBE-8C67-76B5DF72A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280" y="304920"/>
          <a:ext cx="8839440" cy="5940360"/>
        </p:xfrm>
        <a:graphic>
          <a:graphicData uri="http://schemas.openxmlformats.org/drawingml/2006/table">
            <a:tbl>
              <a:tblPr/>
              <a:tblGrid>
                <a:gridCol w="2819520"/>
                <a:gridCol w="6019920"/>
              </a:tblGrid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ID proof and Address Proof for India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port copy for Foreig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return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for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Fi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d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 for financially evaluated 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poration documents (CoI, MoA and Ao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/Board Resolution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 of affiliate if financials are used for meeting minimum networth 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rt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member of consortium must submit the above documents as applic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lead member (Individuals and Partnershi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/Power of Attorney in favour of Lead Member for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5132-F378-4D9E-B215-2D083177B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8600" y="158760"/>
          <a:ext cx="8686800" cy="6165720"/>
        </p:xfrm>
        <a:graphic>
          <a:graphicData uri="http://schemas.openxmlformats.org/drawingml/2006/table">
            <a:tbl>
              <a:tblPr/>
              <a:tblGrid>
                <a:gridCol w="3048120"/>
                <a:gridCol w="5638680"/>
              </a:tblGrid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A ba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PA issued in April 2015 with relevant modific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years from C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commission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financial closure and conditions subsequ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day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 infu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 of requirement before PPA execution and balance before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location/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changed till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obligations of develop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aining all consents and cleara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ing, financing, construction, owning and operating the power s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interconnection facilities till Interconnection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and maintenance of power plant to conform with RLDC/SLDC/TSTRANSCO/IEGC no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enalties for lower 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beyond 25% CUF will be billed at 50% of applicable tariff for that 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Dispat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energy for DISCOMS’ exclusive benef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ed Energy prior to COD shall be purchased at Quoted Tari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te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bill payment. Rebate and Late payment interest provided</a:t>
                      </a:r>
                      <a:br>
                        <a:rPr sz="1500"/>
                      </a:b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security is letter of cred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FB38-B094-4624-A5F8-672880A80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ef Overview and Project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685800"/>
          <a:ext cx="8229600" cy="599436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368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Lo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is free to set up Projects anywhere in the St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/Project site can be changed until financial clos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Delivery Voltage of 33 kV at 33/11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(double circuit line) 220 kV Delivery Voltage at 400/220 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apacity Limits defined at each voltage level and at each s/s category under Annexure 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connection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ingle Project shall be connected to a single Interconnection Substation. It is the onus of the Bidder to demonstrate that Project(s) proposed have distinct boundaries, to the satisfaction of the Authorized Represent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 any substation can have multiple projects connected to it depending on available capacity specified in the Rf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shall submit a List of Preferred Interconnection Substations (At least 1 and upto 10) where he intends to connect the entire Offered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 (in order of bid parameter) shall be done in the order of the preference li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ter issue of LOI, Interconnection Substation cannot be chang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4CFF-C2E7-4C2A-B152-DD6C7B87B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06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iff, Evaluation and Pa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609480"/>
          <a:ext cx="8686800" cy="3368880"/>
        </p:xfrm>
        <a:graphic>
          <a:graphicData uri="http://schemas.openxmlformats.org/drawingml/2006/table">
            <a:tbl>
              <a:tblPr/>
              <a:tblGrid>
                <a:gridCol w="2666880"/>
                <a:gridCol w="3200400"/>
                <a:gridCol w="2819520"/>
              </a:tblGrid>
              <a:tr h="353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Options (all tariffs for evaluation and payment shall be on Tariff Year basi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Year shall mean 365 days from COD and last Tariff Year shall end on expiry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form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quotes a single Quoted Tariff uniformly applicable for the entire term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is Quoted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oted Tariff shall be applicable for the entire term of the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Delivered energy prior to the COD of the Project shall be purchased at tariff of first Tariff Yea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4920" y="4373640"/>
            <a:ext cx="8686800" cy="2454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04920" y="4038480"/>
            <a:ext cx="8686800" cy="33516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 Ta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5982-1830-4D64-B6C5-0850D2CB4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1 Bids (injecting at 33/11 kV s/s) and Group 2 Bids (injecting at EHT s/s of 132/33 kV and above) shall be evaluated separately and process of allocation will be separate for these two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ocation will be undertaken for Group 1 Bids first, followed by Group 2 Bi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DBA6-51AE-4A3A-ABA9-2D02754B6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240" y="685800"/>
            <a:ext cx="5989680" cy="5521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triction on capacity limit for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073920" y="1184400"/>
            <a:ext cx="2895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ct capacity constraint supersedes sum of all subst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hbubnagar’s capacity for group I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capacities of s/s (132/33 kV) under Mahbubnagar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ies shall be allocated till 100 MW a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27 MW in Mahbub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A53E-B4CD-42CC-A588-4726DB2EA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0240" y="6186600"/>
            <a:ext cx="591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Authorized Representative reserves the right to change the Requisitioned Capacity as specified abo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KPMG</dc:creator>
  <dc:description/>
  <dc:language>en-US</dc:language>
  <cp:lastModifiedBy>ipc</cp:lastModifiedBy>
  <dcterms:modified xsi:type="dcterms:W3CDTF">2015-04-22T08:34:29Z</dcterms:modified>
  <cp:revision>211</cp:revision>
  <dc:subject/>
  <dc:title>Competitive bidding for procurement of 500 MW of solar power – An overview</dc:title>
</cp:coreProperties>
</file>